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6C880-EDCD-48C2-BE4C-E294C64993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B5C56-3474-4800-BCF9-B0736B0C9B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9E6BA-BB59-43B8-A1DB-BB8A73F2AA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149FA-FADB-40A1-900C-8F6B96AF70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0A0B6-EB88-4A3F-BDE0-94DC326EF6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A56C4-2436-4EF0-995B-7663BDA02D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A438A-FAC0-4878-9219-5EBB47FED4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365D4-C0F9-4CEC-8BCA-D5B7889967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31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9EA24-C1CD-442D-8010-E3FB0F1F92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80C4F-A4F0-4309-801D-CD8B45D80C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B3857-F273-453C-B040-E593016305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5B45E-AD4D-43A6-B4C3-C4E4AFEC12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B8410A72-D537-432E-8282-86B4485A5E00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95280" y="0"/>
            <a:ext cx="822960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БЮДЖЕТ ДЛЯ ГРАЖДАН</a:t>
            </a:r>
            <a:br>
              <a:rPr sz="4400"/>
            </a:b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муниципального образования </a:t>
            </a:r>
            <a:r>
              <a:rPr b="1" lang="ru-RU" sz="4200" spc="-1" strike="noStrike">
                <a:solidFill>
                  <a:srgbClr val="ff0000"/>
                </a:solidFill>
                <a:latin typeface="Georgia"/>
              </a:rPr>
              <a:t>«Вышнедеревенский сельсовет»</a:t>
            </a: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 Льговского района Курской области за 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2022</a:t>
            </a: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 год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66"/>
                </a:solidFill>
                <a:latin typeface="Georgia"/>
              </a:rPr>
              <a:t>Муниципальный бюджет – это форма</a:t>
            </a:r>
            <a:br>
              <a:rPr sz="2200"/>
            </a:br>
            <a:r>
              <a:rPr b="1" lang="ru-RU" sz="2200" spc="-1" strike="noStrike">
                <a:solidFill>
                  <a:srgbClr val="000066"/>
                </a:solidFill>
                <a:latin typeface="Georgia"/>
              </a:rPr>
              <a:t> образования и расходования денежных средств, предназначенных для финансового обеспечения задач и функций органов местного самоуправления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6200000">
            <a:off x="1000800" y="872280"/>
            <a:ext cx="2736720" cy="4392360"/>
          </a:xfrm>
          <a:prstGeom prst="horizontalScroll">
            <a:avLst>
              <a:gd name="adj" fmla="val 12500"/>
            </a:avLst>
          </a:prstGeom>
          <a:solidFill>
            <a:srgbClr val="efc7e4">
              <a:alpha val="50000"/>
            </a:srgbClr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Доходы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оступа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 бюджет денеж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редства в ви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логовых , неналоговых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безвозмездных поступ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6200000">
            <a:off x="5429160" y="907920"/>
            <a:ext cx="2736720" cy="4321080"/>
          </a:xfrm>
          <a:prstGeom prst="horizontalScroll">
            <a:avLst>
              <a:gd name="adj" fmla="val 12500"/>
            </a:avLst>
          </a:prstGeom>
          <a:solidFill>
            <a:srgbClr val="abbafb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Расходы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денеж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редства, направляе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финансовое обесп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задач и функций орг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естного само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4653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f8bda6">
              <a:alpha val="50000"/>
            </a:srgbClr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Де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ревышение расходов бюджета над его дохо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661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b4faa4">
              <a:alpha val="50000"/>
            </a:srgbClr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Про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ревышение доходов бюджета над его расход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3000" spc="-1" strike="noStrike">
                <a:solidFill>
                  <a:srgbClr val="c61e0c"/>
                </a:solidFill>
                <a:latin typeface="Georgia"/>
              </a:rPr>
              <a:t>Доходы бюджета муниципального образования «Вышнедеревенский сельсовет» за 202</a:t>
            </a:r>
            <a:r>
              <a:rPr b="1" lang="en-US" sz="3000" spc="-1" strike="noStrike">
                <a:solidFill>
                  <a:srgbClr val="c61e0c"/>
                </a:solidFill>
                <a:latin typeface="Georgia"/>
              </a:rPr>
              <a:t>2</a:t>
            </a:r>
            <a:r>
              <a:rPr b="1" lang="ru-RU" sz="3000" spc="-1" strike="noStrike">
                <a:solidFill>
                  <a:srgbClr val="c61e0c"/>
                </a:solidFill>
                <a:latin typeface="Georgia"/>
              </a:rPr>
              <a:t> г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00" y="81090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079640" y="1440000"/>
          <a:ext cx="7741800" cy="5712840"/>
        </p:xfrm>
        <a:graphic>
          <a:graphicData uri="http://schemas.openxmlformats.org/drawingml/2006/table">
            <a:tbl>
              <a:tblPr/>
              <a:tblGrid>
                <a:gridCol w="788760"/>
                <a:gridCol w="4365360"/>
                <a:gridCol w="2587680"/>
              </a:tblGrid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6040"/>
                          <a:tab algn="l" pos="895320"/>
                          <a:tab algn="l" pos="1344600"/>
                          <a:tab algn="l" pos="1793880"/>
                          <a:tab algn="l" pos="2243160"/>
                          <a:tab algn="l" pos="2692440"/>
                          <a:tab algn="l" pos="3141720"/>
                          <a:tab algn="l" pos="3591000"/>
                          <a:tab algn="l" pos="4040280"/>
                          <a:tab algn="l" pos="4489560"/>
                          <a:tab algn="l" pos="4938840"/>
                          <a:tab algn="l" pos="5388120"/>
                          <a:tab algn="l" pos="5837400"/>
                          <a:tab algn="l" pos="6286680"/>
                          <a:tab algn="l" pos="6735600"/>
                          <a:tab algn="l" pos="7184880"/>
                          <a:tab algn="l" pos="7634160"/>
                          <a:tab algn="l" pos="8083440"/>
                          <a:tab algn="l" pos="8532720"/>
                          <a:tab algn="l" pos="8982000"/>
                          <a:tab algn="l" pos="8983800"/>
                          <a:tab algn="l" pos="9433080"/>
                          <a:tab algn="l" pos="9882360"/>
                          <a:tab algn="l" pos="10331280"/>
                          <a:tab algn="l" pos="1078056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4600"/>
                          <a:tab algn="l" pos="893880"/>
                          <a:tab algn="l" pos="1343160"/>
                          <a:tab algn="l" pos="1792440"/>
                          <a:tab algn="l" pos="2241720"/>
                          <a:tab algn="l" pos="2690640"/>
                          <a:tab algn="l" pos="3139920"/>
                          <a:tab algn="l" pos="3589200"/>
                          <a:tab algn="l" pos="4038480"/>
                          <a:tab algn="l" pos="4487760"/>
                          <a:tab algn="l" pos="4937040"/>
                          <a:tab algn="l" pos="5386320"/>
                          <a:tab algn="l" pos="5835600"/>
                          <a:tab algn="l" pos="6284880"/>
                          <a:tab algn="l" pos="6734160"/>
                          <a:tab algn="l" pos="7183440"/>
                          <a:tab algn="l" pos="7632720"/>
                          <a:tab algn="l" pos="8082000"/>
                          <a:tab algn="l" pos="853128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оказа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4600"/>
                          <a:tab algn="l" pos="893880"/>
                          <a:tab algn="l" pos="1343160"/>
                          <a:tab algn="l" pos="1792440"/>
                          <a:tab algn="l" pos="2241720"/>
                          <a:tab algn="l" pos="2690640"/>
                          <a:tab algn="l" pos="3139920"/>
                          <a:tab algn="l" pos="3589200"/>
                          <a:tab algn="l" pos="4038480"/>
                          <a:tab algn="l" pos="4487760"/>
                          <a:tab algn="l" pos="4937040"/>
                          <a:tab algn="l" pos="5386320"/>
                          <a:tab algn="l" pos="5835600"/>
                          <a:tab algn="l" pos="6284880"/>
                          <a:tab algn="l" pos="6734160"/>
                          <a:tab algn="l" pos="7183440"/>
                          <a:tab algn="l" pos="7632720"/>
                          <a:tab algn="l" pos="8082000"/>
                          <a:tab algn="l" pos="853128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умма, тыс.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16000" indent="-214560">
                        <a:lnSpc>
                          <a:spcPct val="76000"/>
                        </a:lnSpc>
                        <a:tabLst>
                          <a:tab algn="l" pos="0"/>
                          <a:tab algn="l" pos="444600"/>
                          <a:tab algn="l" pos="893880"/>
                          <a:tab algn="l" pos="1343160"/>
                          <a:tab algn="l" pos="1792440"/>
                          <a:tab algn="l" pos="2241720"/>
                          <a:tab algn="l" pos="2690640"/>
                          <a:tab algn="l" pos="3139920"/>
                          <a:tab algn="l" pos="3589200"/>
                          <a:tab algn="l" pos="4038480"/>
                          <a:tab algn="l" pos="4487760"/>
                          <a:tab algn="l" pos="4937040"/>
                          <a:tab algn="l" pos="5386320"/>
                          <a:tab algn="l" pos="5835600"/>
                          <a:tab algn="l" pos="6284880"/>
                          <a:tab algn="l" pos="6734160"/>
                          <a:tab algn="l" pos="7183440"/>
                          <a:tab algn="l" pos="7632720"/>
                          <a:tab algn="l" pos="8082000"/>
                          <a:tab algn="l" pos="853128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16000" indent="-214560">
                        <a:lnSpc>
                          <a:spcPct val="76000"/>
                        </a:lnSpc>
                        <a:tabLst>
                          <a:tab algn="l" pos="0"/>
                          <a:tab algn="l" pos="444600"/>
                          <a:tab algn="l" pos="893880"/>
                          <a:tab algn="l" pos="1343160"/>
                          <a:tab algn="l" pos="1792440"/>
                          <a:tab algn="l" pos="2241720"/>
                          <a:tab algn="l" pos="2690640"/>
                          <a:tab algn="l" pos="3139920"/>
                          <a:tab algn="l" pos="3589200"/>
                          <a:tab algn="l" pos="4038480"/>
                          <a:tab algn="l" pos="4487760"/>
                          <a:tab algn="l" pos="4937040"/>
                          <a:tab algn="l" pos="5386320"/>
                          <a:tab algn="l" pos="5835600"/>
                          <a:tab algn="l" pos="6284880"/>
                          <a:tab algn="l" pos="6734160"/>
                          <a:tab algn="l" pos="7183440"/>
                          <a:tab algn="l" pos="7632720"/>
                          <a:tab algn="l" pos="8082000"/>
                          <a:tab algn="l" pos="853128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логовые и неналоговые доход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16000" indent="-214560">
                        <a:lnSpc>
                          <a:spcPct val="76000"/>
                        </a:lnSpc>
                        <a:tabLst>
                          <a:tab algn="l" pos="0"/>
                          <a:tab algn="l" pos="444600"/>
                          <a:tab algn="l" pos="893880"/>
                          <a:tab algn="l" pos="1343160"/>
                          <a:tab algn="l" pos="1792440"/>
                          <a:tab algn="l" pos="2241720"/>
                          <a:tab algn="l" pos="2690640"/>
                          <a:tab algn="l" pos="3139920"/>
                          <a:tab algn="l" pos="3589200"/>
                          <a:tab algn="l" pos="4038480"/>
                          <a:tab algn="l" pos="4487760"/>
                          <a:tab algn="l" pos="4937040"/>
                          <a:tab algn="l" pos="5386320"/>
                          <a:tab algn="l" pos="5835600"/>
                          <a:tab algn="l" pos="6284880"/>
                          <a:tab algn="l" pos="6734160"/>
                          <a:tab algn="l" pos="7183440"/>
                          <a:tab algn="l" pos="7632720"/>
                          <a:tab algn="l" pos="8082000"/>
                          <a:tab algn="l" pos="853128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49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16000" indent="-214560">
                        <a:lnSpc>
                          <a:spcPct val="76000"/>
                        </a:lnSpc>
                        <a:tabLst>
                          <a:tab algn="l" pos="0"/>
                          <a:tab algn="l" pos="444600"/>
                          <a:tab algn="l" pos="893880"/>
                          <a:tab algn="l" pos="1343160"/>
                          <a:tab algn="l" pos="1792440"/>
                          <a:tab algn="l" pos="2241720"/>
                          <a:tab algn="l" pos="2690640"/>
                          <a:tab algn="l" pos="3139920"/>
                          <a:tab algn="l" pos="3589200"/>
                          <a:tab algn="l" pos="4038480"/>
                          <a:tab algn="l" pos="4487760"/>
                          <a:tab algn="l" pos="4937040"/>
                          <a:tab algn="l" pos="5386320"/>
                          <a:tab algn="l" pos="5835600"/>
                          <a:tab algn="l" pos="6284880"/>
                          <a:tab algn="l" pos="6734160"/>
                          <a:tab algn="l" pos="7183440"/>
                          <a:tab algn="l" pos="7632720"/>
                          <a:tab algn="l" pos="8082000"/>
                          <a:tab algn="l" pos="853128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16000" indent="-214560">
                        <a:lnSpc>
                          <a:spcPct val="76000"/>
                        </a:lnSpc>
                        <a:tabLst>
                          <a:tab algn="l" pos="0"/>
                          <a:tab algn="l" pos="444600"/>
                          <a:tab algn="l" pos="893880"/>
                          <a:tab algn="l" pos="1343160"/>
                          <a:tab algn="l" pos="1792440"/>
                          <a:tab algn="l" pos="2241720"/>
                          <a:tab algn="l" pos="2690640"/>
                          <a:tab algn="l" pos="3139920"/>
                          <a:tab algn="l" pos="3589200"/>
                          <a:tab algn="l" pos="4038480"/>
                          <a:tab algn="l" pos="4487760"/>
                          <a:tab algn="l" pos="4937040"/>
                          <a:tab algn="l" pos="5386320"/>
                          <a:tab algn="l" pos="5835600"/>
                          <a:tab algn="l" pos="6284880"/>
                          <a:tab algn="l" pos="6734160"/>
                          <a:tab algn="l" pos="7183440"/>
                          <a:tab algn="l" pos="7632720"/>
                          <a:tab algn="l" pos="8082000"/>
                          <a:tab algn="l" pos="853128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ДФ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16000" indent="-214560">
                        <a:lnSpc>
                          <a:spcPct val="76000"/>
                        </a:lnSpc>
                        <a:tabLst>
                          <a:tab algn="l" pos="0"/>
                          <a:tab algn="l" pos="444600"/>
                          <a:tab algn="l" pos="893880"/>
                          <a:tab algn="l" pos="1343160"/>
                          <a:tab algn="l" pos="1792440"/>
                          <a:tab algn="l" pos="2241720"/>
                          <a:tab algn="l" pos="2690640"/>
                          <a:tab algn="l" pos="3139920"/>
                          <a:tab algn="l" pos="3589200"/>
                          <a:tab algn="l" pos="4038480"/>
                          <a:tab algn="l" pos="4487760"/>
                          <a:tab algn="l" pos="4937040"/>
                          <a:tab algn="l" pos="5386320"/>
                          <a:tab algn="l" pos="5835600"/>
                          <a:tab algn="l" pos="6284880"/>
                          <a:tab algn="l" pos="6734160"/>
                          <a:tab algn="l" pos="7183440"/>
                          <a:tab algn="l" pos="7632720"/>
                          <a:tab algn="l" pos="8082000"/>
                          <a:tab algn="l" pos="853128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16000" indent="-214560">
                        <a:lnSpc>
                          <a:spcPct val="76000"/>
                        </a:lnSpc>
                        <a:tabLst>
                          <a:tab algn="l" pos="0"/>
                          <a:tab algn="l" pos="444600"/>
                          <a:tab algn="l" pos="893880"/>
                          <a:tab algn="l" pos="1343160"/>
                          <a:tab algn="l" pos="1792440"/>
                          <a:tab algn="l" pos="2241720"/>
                          <a:tab algn="l" pos="2690640"/>
                          <a:tab algn="l" pos="3139920"/>
                          <a:tab algn="l" pos="3589200"/>
                          <a:tab algn="l" pos="4038480"/>
                          <a:tab algn="l" pos="4487760"/>
                          <a:tab algn="l" pos="4937040"/>
                          <a:tab algn="l" pos="5386320"/>
                          <a:tab algn="l" pos="5835600"/>
                          <a:tab algn="l" pos="6284880"/>
                          <a:tab algn="l" pos="6734160"/>
                          <a:tab algn="l" pos="7183440"/>
                          <a:tab algn="l" pos="7632720"/>
                          <a:tab algn="l" pos="8082000"/>
                          <a:tab algn="l" pos="853128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16000" indent="-214560">
                        <a:lnSpc>
                          <a:spcPct val="76000"/>
                        </a:lnSpc>
                        <a:tabLst>
                          <a:tab algn="l" pos="0"/>
                          <a:tab algn="l" pos="444600"/>
                          <a:tab algn="l" pos="893880"/>
                          <a:tab algn="l" pos="1343160"/>
                          <a:tab algn="l" pos="1792440"/>
                          <a:tab algn="l" pos="2241720"/>
                          <a:tab algn="l" pos="2690640"/>
                          <a:tab algn="l" pos="3139920"/>
                          <a:tab algn="l" pos="3589200"/>
                          <a:tab algn="l" pos="4038480"/>
                          <a:tab algn="l" pos="4487760"/>
                          <a:tab algn="l" pos="4937040"/>
                          <a:tab algn="l" pos="5386320"/>
                          <a:tab algn="l" pos="5835600"/>
                          <a:tab algn="l" pos="6284880"/>
                          <a:tab algn="l" pos="6734160"/>
                          <a:tab algn="l" pos="7183440"/>
                          <a:tab algn="l" pos="7632720"/>
                          <a:tab algn="l" pos="8082000"/>
                          <a:tab algn="l" pos="853128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логи на совокупный дохо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16000" indent="-214560">
                        <a:lnSpc>
                          <a:spcPct val="76000"/>
                        </a:lnSpc>
                        <a:tabLst>
                          <a:tab algn="l" pos="0"/>
                          <a:tab algn="l" pos="444600"/>
                          <a:tab algn="l" pos="893880"/>
                          <a:tab algn="l" pos="1343160"/>
                          <a:tab algn="l" pos="1792440"/>
                          <a:tab algn="l" pos="2241720"/>
                          <a:tab algn="l" pos="2690640"/>
                          <a:tab algn="l" pos="3139920"/>
                          <a:tab algn="l" pos="3589200"/>
                          <a:tab algn="l" pos="4038480"/>
                          <a:tab algn="l" pos="4487760"/>
                          <a:tab algn="l" pos="4937040"/>
                          <a:tab algn="l" pos="5386320"/>
                          <a:tab algn="l" pos="5835600"/>
                          <a:tab algn="l" pos="6284880"/>
                          <a:tab algn="l" pos="6734160"/>
                          <a:tab algn="l" pos="7183440"/>
                          <a:tab algn="l" pos="7632720"/>
                          <a:tab algn="l" pos="8082000"/>
                          <a:tab algn="l" pos="853128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2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16000" indent="-214560">
                        <a:lnSpc>
                          <a:spcPct val="76000"/>
                        </a:lnSpc>
                        <a:tabLst>
                          <a:tab algn="l" pos="0"/>
                          <a:tab algn="l" pos="444600"/>
                          <a:tab algn="l" pos="893880"/>
                          <a:tab algn="l" pos="1343160"/>
                          <a:tab algn="l" pos="1792440"/>
                          <a:tab algn="l" pos="2241720"/>
                          <a:tab algn="l" pos="2690640"/>
                          <a:tab algn="l" pos="3139920"/>
                          <a:tab algn="l" pos="3589200"/>
                          <a:tab algn="l" pos="4038480"/>
                          <a:tab algn="l" pos="4487760"/>
                          <a:tab algn="l" pos="4937040"/>
                          <a:tab algn="l" pos="5386320"/>
                          <a:tab algn="l" pos="5835600"/>
                          <a:tab algn="l" pos="6284880"/>
                          <a:tab algn="l" pos="6734160"/>
                          <a:tab algn="l" pos="7183440"/>
                          <a:tab algn="l" pos="7632720"/>
                          <a:tab algn="l" pos="8082000"/>
                          <a:tab algn="l" pos="853128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16000" indent="-214560">
                        <a:lnSpc>
                          <a:spcPct val="76000"/>
                        </a:lnSpc>
                        <a:tabLst>
                          <a:tab algn="l" pos="0"/>
                          <a:tab algn="l" pos="444600"/>
                          <a:tab algn="l" pos="893880"/>
                          <a:tab algn="l" pos="1343160"/>
                          <a:tab algn="l" pos="1792440"/>
                          <a:tab algn="l" pos="2241720"/>
                          <a:tab algn="l" pos="2690640"/>
                          <a:tab algn="l" pos="3139920"/>
                          <a:tab algn="l" pos="3589200"/>
                          <a:tab algn="l" pos="4038480"/>
                          <a:tab algn="l" pos="4487760"/>
                          <a:tab algn="l" pos="4937040"/>
                          <a:tab algn="l" pos="5386320"/>
                          <a:tab algn="l" pos="5835600"/>
                          <a:tab algn="l" pos="6284880"/>
                          <a:tab algn="l" pos="6734160"/>
                          <a:tab algn="l" pos="7183440"/>
                          <a:tab algn="l" pos="7632720"/>
                          <a:tab algn="l" pos="8082000"/>
                          <a:tab algn="l" pos="853128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емельный нало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16000" indent="-214560">
                        <a:lnSpc>
                          <a:spcPct val="76000"/>
                        </a:lnSpc>
                        <a:tabLst>
                          <a:tab algn="l" pos="0"/>
                          <a:tab algn="l" pos="444600"/>
                          <a:tab algn="l" pos="893880"/>
                          <a:tab algn="l" pos="1343160"/>
                          <a:tab algn="l" pos="1792440"/>
                          <a:tab algn="l" pos="2241720"/>
                          <a:tab algn="l" pos="2690640"/>
                          <a:tab algn="l" pos="3139920"/>
                          <a:tab algn="l" pos="3589200"/>
                          <a:tab algn="l" pos="4038480"/>
                          <a:tab algn="l" pos="4487760"/>
                          <a:tab algn="l" pos="4937040"/>
                          <a:tab algn="l" pos="5386320"/>
                          <a:tab algn="l" pos="5835600"/>
                          <a:tab algn="l" pos="6284880"/>
                          <a:tab algn="l" pos="6734160"/>
                          <a:tab algn="l" pos="7183440"/>
                          <a:tab algn="l" pos="7632720"/>
                          <a:tab algn="l" pos="8082000"/>
                          <a:tab algn="l" pos="853128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28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16000" indent="-214560">
                        <a:lnSpc>
                          <a:spcPct val="76000"/>
                        </a:lnSpc>
                        <a:tabLst>
                          <a:tab algn="l" pos="0"/>
                          <a:tab algn="l" pos="444600"/>
                          <a:tab algn="l" pos="893880"/>
                          <a:tab algn="l" pos="1343160"/>
                          <a:tab algn="l" pos="1792440"/>
                          <a:tab algn="l" pos="2241720"/>
                          <a:tab algn="l" pos="2690640"/>
                          <a:tab algn="l" pos="3139920"/>
                          <a:tab algn="l" pos="3589200"/>
                          <a:tab algn="l" pos="4038480"/>
                          <a:tab algn="l" pos="4487760"/>
                          <a:tab algn="l" pos="4937040"/>
                          <a:tab algn="l" pos="5386320"/>
                          <a:tab algn="l" pos="5835600"/>
                          <a:tab algn="l" pos="6284880"/>
                          <a:tab algn="l" pos="6734160"/>
                          <a:tab algn="l" pos="7183440"/>
                          <a:tab algn="l" pos="7632720"/>
                          <a:tab algn="l" pos="8082000"/>
                          <a:tab algn="l" pos="853128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16000" indent="-214560">
                        <a:lnSpc>
                          <a:spcPct val="76000"/>
                        </a:lnSpc>
                        <a:tabLst>
                          <a:tab algn="l" pos="0"/>
                          <a:tab algn="l" pos="444600"/>
                          <a:tab algn="l" pos="893880"/>
                          <a:tab algn="l" pos="1343160"/>
                          <a:tab algn="l" pos="1792440"/>
                          <a:tab algn="l" pos="2241720"/>
                          <a:tab algn="l" pos="2690640"/>
                          <a:tab algn="l" pos="3139920"/>
                          <a:tab algn="l" pos="3589200"/>
                          <a:tab algn="l" pos="4038480"/>
                          <a:tab algn="l" pos="4487760"/>
                          <a:tab algn="l" pos="4937040"/>
                          <a:tab algn="l" pos="5386320"/>
                          <a:tab algn="l" pos="5835600"/>
                          <a:tab algn="l" pos="6284880"/>
                          <a:tab algn="l" pos="6734160"/>
                          <a:tab algn="l" pos="7183440"/>
                          <a:tab algn="l" pos="7632720"/>
                          <a:tab algn="l" pos="8082000"/>
                          <a:tab algn="l" pos="853128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лог на имуществ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16000" indent="-214560">
                        <a:lnSpc>
                          <a:spcPct val="76000"/>
                        </a:lnSpc>
                        <a:tabLst>
                          <a:tab algn="l" pos="0"/>
                          <a:tab algn="l" pos="444600"/>
                          <a:tab algn="l" pos="893880"/>
                          <a:tab algn="l" pos="1343160"/>
                          <a:tab algn="l" pos="1792440"/>
                          <a:tab algn="l" pos="2241720"/>
                          <a:tab algn="l" pos="2690640"/>
                          <a:tab algn="l" pos="3139920"/>
                          <a:tab algn="l" pos="3589200"/>
                          <a:tab algn="l" pos="4038480"/>
                          <a:tab algn="l" pos="4487760"/>
                          <a:tab algn="l" pos="4937040"/>
                          <a:tab algn="l" pos="5386320"/>
                          <a:tab algn="l" pos="5835600"/>
                          <a:tab algn="l" pos="6284880"/>
                          <a:tab algn="l" pos="6734160"/>
                          <a:tab algn="l" pos="7183440"/>
                          <a:tab algn="l" pos="7632720"/>
                          <a:tab algn="l" pos="8082000"/>
                          <a:tab algn="l" pos="853128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5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19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16000" indent="-214560">
                        <a:lnSpc>
                          <a:spcPct val="76000"/>
                        </a:lnSpc>
                        <a:tabLst>
                          <a:tab algn="l" pos="0"/>
                          <a:tab algn="l" pos="444600"/>
                          <a:tab algn="l" pos="893880"/>
                          <a:tab algn="l" pos="1343160"/>
                          <a:tab algn="l" pos="1792440"/>
                          <a:tab algn="l" pos="2241720"/>
                          <a:tab algn="l" pos="2690640"/>
                          <a:tab algn="l" pos="3139920"/>
                          <a:tab algn="l" pos="3589200"/>
                          <a:tab algn="l" pos="4038480"/>
                          <a:tab algn="l" pos="4487760"/>
                          <a:tab algn="l" pos="4937040"/>
                          <a:tab algn="l" pos="5386320"/>
                          <a:tab algn="l" pos="5835600"/>
                          <a:tab algn="l" pos="6284880"/>
                          <a:tab algn="l" pos="6734160"/>
                          <a:tab algn="l" pos="7183440"/>
                          <a:tab algn="l" pos="7632720"/>
                          <a:tab algn="l" pos="8082000"/>
                          <a:tab algn="l" pos="853128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16000" indent="-214560">
                        <a:lnSpc>
                          <a:spcPct val="76000"/>
                        </a:lnSpc>
                        <a:tabLst>
                          <a:tab algn="l" pos="0"/>
                          <a:tab algn="l" pos="444600"/>
                          <a:tab algn="l" pos="893880"/>
                          <a:tab algn="l" pos="1343160"/>
                          <a:tab algn="l" pos="1792440"/>
                          <a:tab algn="l" pos="2241720"/>
                          <a:tab algn="l" pos="2690640"/>
                          <a:tab algn="l" pos="3139920"/>
                          <a:tab algn="l" pos="3589200"/>
                          <a:tab algn="l" pos="4038480"/>
                          <a:tab algn="l" pos="4487760"/>
                          <a:tab algn="l" pos="4937040"/>
                          <a:tab algn="l" pos="5386320"/>
                          <a:tab algn="l" pos="5835600"/>
                          <a:tab algn="l" pos="6284880"/>
                          <a:tab algn="l" pos="6734160"/>
                          <a:tab algn="l" pos="7183440"/>
                          <a:tab algn="l" pos="7632720"/>
                          <a:tab algn="l" pos="8082000"/>
                          <a:tab algn="l" pos="853128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долженность и перерасчеты по отмененным налогам, сборам и иным  обязательным платежа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4600"/>
                          <a:tab algn="l" pos="893880"/>
                          <a:tab algn="l" pos="1343160"/>
                          <a:tab algn="l" pos="1792440"/>
                          <a:tab algn="l" pos="2241720"/>
                          <a:tab algn="l" pos="2690640"/>
                          <a:tab algn="l" pos="3139920"/>
                          <a:tab algn="l" pos="3589200"/>
                          <a:tab algn="l" pos="4038480"/>
                          <a:tab algn="l" pos="4487760"/>
                          <a:tab algn="l" pos="4937040"/>
                          <a:tab algn="l" pos="5386320"/>
                          <a:tab algn="l" pos="5835600"/>
                          <a:tab algn="l" pos="6284880"/>
                          <a:tab algn="l" pos="6734160"/>
                          <a:tab algn="l" pos="7183440"/>
                          <a:tab algn="l" pos="7632720"/>
                          <a:tab algn="l" pos="8082000"/>
                          <a:tab algn="l" pos="853128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3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16000" indent="-214560">
                        <a:lnSpc>
                          <a:spcPct val="76000"/>
                        </a:lnSpc>
                        <a:tabLst>
                          <a:tab algn="l" pos="0"/>
                          <a:tab algn="l" pos="444600"/>
                          <a:tab algn="l" pos="893880"/>
                          <a:tab algn="l" pos="1343160"/>
                          <a:tab algn="l" pos="1792440"/>
                          <a:tab algn="l" pos="2241720"/>
                          <a:tab algn="l" pos="2690640"/>
                          <a:tab algn="l" pos="3139920"/>
                          <a:tab algn="l" pos="3589200"/>
                          <a:tab algn="l" pos="4038480"/>
                          <a:tab algn="l" pos="4487760"/>
                          <a:tab algn="l" pos="4937040"/>
                          <a:tab algn="l" pos="5386320"/>
                          <a:tab algn="l" pos="5835600"/>
                          <a:tab algn="l" pos="6284880"/>
                          <a:tab algn="l" pos="6734160"/>
                          <a:tab algn="l" pos="7183440"/>
                          <a:tab algn="l" pos="7632720"/>
                          <a:tab algn="l" pos="8082000"/>
                          <a:tab algn="l" pos="853128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16000" indent="-214560">
                        <a:lnSpc>
                          <a:spcPct val="76000"/>
                        </a:lnSpc>
                        <a:tabLst>
                          <a:tab algn="l" pos="0"/>
                          <a:tab algn="l" pos="444600"/>
                          <a:tab algn="l" pos="893880"/>
                          <a:tab algn="l" pos="1343160"/>
                          <a:tab algn="l" pos="1792440"/>
                          <a:tab algn="l" pos="2241720"/>
                          <a:tab algn="l" pos="2690640"/>
                          <a:tab algn="l" pos="3139920"/>
                          <a:tab algn="l" pos="3589200"/>
                          <a:tab algn="l" pos="4038480"/>
                          <a:tab algn="l" pos="4487760"/>
                          <a:tab algn="l" pos="4937040"/>
                          <a:tab algn="l" pos="5386320"/>
                          <a:tab algn="l" pos="5835600"/>
                          <a:tab algn="l" pos="6284880"/>
                          <a:tab algn="l" pos="6734160"/>
                          <a:tab algn="l" pos="7183440"/>
                          <a:tab algn="l" pos="7632720"/>
                          <a:tab algn="l" pos="8082000"/>
                          <a:tab algn="l" pos="853128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ходы от использования имущества находящегося в муниципальной собственнос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16000" indent="-214560">
                        <a:lnSpc>
                          <a:spcPct val="76000"/>
                        </a:lnSpc>
                        <a:tabLst>
                          <a:tab algn="l" pos="0"/>
                          <a:tab algn="l" pos="444600"/>
                          <a:tab algn="l" pos="893880"/>
                          <a:tab algn="l" pos="1343160"/>
                          <a:tab algn="l" pos="1792440"/>
                          <a:tab algn="l" pos="2241720"/>
                          <a:tab algn="l" pos="2690640"/>
                          <a:tab algn="l" pos="3139920"/>
                          <a:tab algn="l" pos="3589200"/>
                          <a:tab algn="l" pos="4038480"/>
                          <a:tab algn="l" pos="4487760"/>
                          <a:tab algn="l" pos="4937040"/>
                          <a:tab algn="l" pos="5386320"/>
                          <a:tab algn="l" pos="5835600"/>
                          <a:tab algn="l" pos="6284880"/>
                          <a:tab algn="l" pos="6734160"/>
                          <a:tab algn="l" pos="7183440"/>
                          <a:tab algn="l" pos="7632720"/>
                          <a:tab algn="l" pos="8082000"/>
                          <a:tab algn="l" pos="853128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45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16000" indent="-214560">
                        <a:lnSpc>
                          <a:spcPct val="76000"/>
                        </a:lnSpc>
                        <a:tabLst>
                          <a:tab algn="l" pos="0"/>
                          <a:tab algn="l" pos="444600"/>
                          <a:tab algn="l" pos="893880"/>
                          <a:tab algn="l" pos="1343160"/>
                          <a:tab algn="l" pos="1792440"/>
                          <a:tab algn="l" pos="2241720"/>
                          <a:tab algn="l" pos="2690640"/>
                          <a:tab algn="l" pos="3139920"/>
                          <a:tab algn="l" pos="3589200"/>
                          <a:tab algn="l" pos="4038480"/>
                          <a:tab algn="l" pos="4487760"/>
                          <a:tab algn="l" pos="4937040"/>
                          <a:tab algn="l" pos="5386320"/>
                          <a:tab algn="l" pos="5835600"/>
                          <a:tab algn="l" pos="6284880"/>
                          <a:tab algn="l" pos="6734160"/>
                          <a:tab algn="l" pos="7183440"/>
                          <a:tab algn="l" pos="7632720"/>
                          <a:tab algn="l" pos="8082000"/>
                          <a:tab algn="l" pos="853128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16000" indent="-214560">
                        <a:lnSpc>
                          <a:spcPct val="76000"/>
                        </a:lnSpc>
                        <a:tabLst>
                          <a:tab algn="l" pos="0"/>
                          <a:tab algn="l" pos="444600"/>
                          <a:tab algn="l" pos="893880"/>
                          <a:tab algn="l" pos="1343160"/>
                          <a:tab algn="l" pos="1792440"/>
                          <a:tab algn="l" pos="2241720"/>
                          <a:tab algn="l" pos="2690640"/>
                          <a:tab algn="l" pos="3139920"/>
                          <a:tab algn="l" pos="3589200"/>
                          <a:tab algn="l" pos="4038480"/>
                          <a:tab algn="l" pos="4487760"/>
                          <a:tab algn="l" pos="4937040"/>
                          <a:tab algn="l" pos="5386320"/>
                          <a:tab algn="l" pos="5835600"/>
                          <a:tab algn="l" pos="6284880"/>
                          <a:tab algn="l" pos="6734160"/>
                          <a:tab algn="l" pos="7183440"/>
                          <a:tab algn="l" pos="7632720"/>
                          <a:tab algn="l" pos="8082000"/>
                          <a:tab algn="l" pos="853128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 от оказания платных услуг и компенсаций затрат государств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16000" indent="-214560">
                        <a:lnSpc>
                          <a:spcPct val="76000"/>
                        </a:lnSpc>
                        <a:tabLst>
                          <a:tab algn="l" pos="0"/>
                          <a:tab algn="l" pos="444600"/>
                          <a:tab algn="l" pos="893880"/>
                          <a:tab algn="l" pos="1343160"/>
                          <a:tab algn="l" pos="1792440"/>
                          <a:tab algn="l" pos="2241720"/>
                          <a:tab algn="l" pos="2690640"/>
                          <a:tab algn="l" pos="3139920"/>
                          <a:tab algn="l" pos="3589200"/>
                          <a:tab algn="l" pos="4038480"/>
                          <a:tab algn="l" pos="4487760"/>
                          <a:tab algn="l" pos="4937040"/>
                          <a:tab algn="l" pos="5386320"/>
                          <a:tab algn="l" pos="5835600"/>
                          <a:tab algn="l" pos="6284880"/>
                          <a:tab algn="l" pos="6734160"/>
                          <a:tab algn="l" pos="7183440"/>
                          <a:tab algn="l" pos="7632720"/>
                          <a:tab algn="l" pos="8082000"/>
                          <a:tab algn="l" pos="853128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4600"/>
                          <a:tab algn="l" pos="893880"/>
                          <a:tab algn="l" pos="1343160"/>
                          <a:tab algn="l" pos="1792440"/>
                          <a:tab algn="l" pos="2241720"/>
                          <a:tab algn="l" pos="2690640"/>
                          <a:tab algn="l" pos="3139920"/>
                          <a:tab algn="l" pos="3589200"/>
                          <a:tab algn="l" pos="4038480"/>
                          <a:tab algn="l" pos="4487760"/>
                          <a:tab algn="l" pos="4937040"/>
                          <a:tab algn="l" pos="5386320"/>
                          <a:tab algn="l" pos="5835600"/>
                          <a:tab algn="l" pos="6284880"/>
                          <a:tab algn="l" pos="6734160"/>
                          <a:tab algn="l" pos="7183440"/>
                          <a:tab algn="l" pos="7632720"/>
                          <a:tab algn="l" pos="8082000"/>
                          <a:tab algn="l" pos="853128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4600"/>
                          <a:tab algn="l" pos="893880"/>
                          <a:tab algn="l" pos="1343160"/>
                          <a:tab algn="l" pos="1792440"/>
                          <a:tab algn="l" pos="2241720"/>
                          <a:tab algn="l" pos="2690640"/>
                          <a:tab algn="l" pos="3139920"/>
                          <a:tab algn="l" pos="3589200"/>
                          <a:tab algn="l" pos="4038480"/>
                          <a:tab algn="l" pos="4487760"/>
                          <a:tab algn="l" pos="4937040"/>
                          <a:tab algn="l" pos="5386320"/>
                          <a:tab algn="l" pos="5835600"/>
                          <a:tab algn="l" pos="6284880"/>
                          <a:tab algn="l" pos="6734160"/>
                          <a:tab algn="l" pos="7183440"/>
                          <a:tab algn="l" pos="7632720"/>
                          <a:tab algn="l" pos="8082000"/>
                          <a:tab algn="l" pos="853128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рафы,санкции, возмещение ущерб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4600"/>
                          <a:tab algn="l" pos="893880"/>
                          <a:tab algn="l" pos="1343160"/>
                          <a:tab algn="l" pos="1792440"/>
                          <a:tab algn="l" pos="2241720"/>
                          <a:tab algn="l" pos="2690640"/>
                          <a:tab algn="l" pos="3139920"/>
                          <a:tab algn="l" pos="3589200"/>
                          <a:tab algn="l" pos="4038480"/>
                          <a:tab algn="l" pos="4487760"/>
                          <a:tab algn="l" pos="4937040"/>
                          <a:tab algn="l" pos="5386320"/>
                          <a:tab algn="l" pos="5835600"/>
                          <a:tab algn="l" pos="6284880"/>
                          <a:tab algn="l" pos="6734160"/>
                          <a:tab algn="l" pos="7183440"/>
                          <a:tab algn="l" pos="7632720"/>
                          <a:tab algn="l" pos="8082000"/>
                          <a:tab algn="l" pos="853128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16000" indent="-214560">
                        <a:lnSpc>
                          <a:spcPct val="76000"/>
                        </a:lnSpc>
                        <a:tabLst>
                          <a:tab algn="l" pos="0"/>
                          <a:tab algn="l" pos="444600"/>
                          <a:tab algn="l" pos="893880"/>
                          <a:tab algn="l" pos="1343160"/>
                          <a:tab algn="l" pos="1792440"/>
                          <a:tab algn="l" pos="2241720"/>
                          <a:tab algn="l" pos="2690640"/>
                          <a:tab algn="l" pos="3139920"/>
                          <a:tab algn="l" pos="3589200"/>
                          <a:tab algn="l" pos="4038480"/>
                          <a:tab algn="l" pos="4487760"/>
                          <a:tab algn="l" pos="4937040"/>
                          <a:tab algn="l" pos="5386320"/>
                          <a:tab algn="l" pos="5835600"/>
                          <a:tab algn="l" pos="6284880"/>
                          <a:tab algn="l" pos="6734160"/>
                          <a:tab algn="l" pos="7183440"/>
                          <a:tab algn="l" pos="7632720"/>
                          <a:tab algn="l" pos="8082000"/>
                          <a:tab algn="l" pos="853128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9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16000" indent="-214560">
                        <a:lnSpc>
                          <a:spcPct val="76000"/>
                        </a:lnSpc>
                        <a:tabLst>
                          <a:tab algn="l" pos="0"/>
                          <a:tab algn="l" pos="444600"/>
                          <a:tab algn="l" pos="893880"/>
                          <a:tab algn="l" pos="1343160"/>
                          <a:tab algn="l" pos="1792440"/>
                          <a:tab algn="l" pos="2241720"/>
                          <a:tab algn="l" pos="2690640"/>
                          <a:tab algn="l" pos="3139920"/>
                          <a:tab algn="l" pos="3589200"/>
                          <a:tab algn="l" pos="4038480"/>
                          <a:tab algn="l" pos="4487760"/>
                          <a:tab algn="l" pos="4937040"/>
                          <a:tab algn="l" pos="5386320"/>
                          <a:tab algn="l" pos="5835600"/>
                          <a:tab algn="l" pos="6284880"/>
                          <a:tab algn="l" pos="6734160"/>
                          <a:tab algn="l" pos="7183440"/>
                          <a:tab algn="l" pos="7632720"/>
                          <a:tab algn="l" pos="8082000"/>
                          <a:tab algn="l" pos="853128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ходы от продажи материальных и нематериальных актив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444600"/>
                          <a:tab algn="l" pos="893880"/>
                          <a:tab algn="l" pos="1343160"/>
                          <a:tab algn="l" pos="1792440"/>
                          <a:tab algn="l" pos="2241720"/>
                          <a:tab algn="l" pos="2690640"/>
                          <a:tab algn="l" pos="3139920"/>
                          <a:tab algn="l" pos="3589200"/>
                          <a:tab algn="l" pos="4038480"/>
                          <a:tab algn="l" pos="4487760"/>
                          <a:tab algn="l" pos="4937040"/>
                          <a:tab algn="l" pos="5386320"/>
                          <a:tab algn="l" pos="5835600"/>
                          <a:tab algn="l" pos="6284880"/>
                          <a:tab algn="l" pos="6734160"/>
                          <a:tab algn="l" pos="7183440"/>
                          <a:tab algn="l" pos="7632720"/>
                          <a:tab algn="l" pos="8082000"/>
                          <a:tab algn="l" pos="853128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2310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4600"/>
                          <a:tab algn="l" pos="893880"/>
                          <a:tab algn="l" pos="1343160"/>
                          <a:tab algn="l" pos="1792440"/>
                          <a:tab algn="l" pos="2241720"/>
                          <a:tab algn="l" pos="2690640"/>
                          <a:tab algn="l" pos="3139920"/>
                          <a:tab algn="l" pos="3589200"/>
                          <a:tab algn="l" pos="4038480"/>
                          <a:tab algn="l" pos="4487760"/>
                          <a:tab algn="l" pos="4937040"/>
                          <a:tab algn="l" pos="5386320"/>
                          <a:tab algn="l" pos="5835600"/>
                          <a:tab algn="l" pos="6284880"/>
                          <a:tab algn="l" pos="6734160"/>
                          <a:tab algn="l" pos="7183440"/>
                          <a:tab algn="l" pos="7632720"/>
                          <a:tab algn="l" pos="8082000"/>
                          <a:tab algn="l" pos="853128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4600"/>
                          <a:tab algn="l" pos="893880"/>
                          <a:tab algn="l" pos="1343160"/>
                          <a:tab algn="l" pos="1792440"/>
                          <a:tab algn="l" pos="2241720"/>
                          <a:tab algn="l" pos="2690640"/>
                          <a:tab algn="l" pos="3139920"/>
                          <a:tab algn="l" pos="3589200"/>
                          <a:tab algn="l" pos="4038480"/>
                          <a:tab algn="l" pos="4487760"/>
                          <a:tab algn="l" pos="4937040"/>
                          <a:tab algn="l" pos="5386320"/>
                          <a:tab algn="l" pos="5835600"/>
                          <a:tab algn="l" pos="6284880"/>
                          <a:tab algn="l" pos="6734160"/>
                          <a:tab algn="l" pos="7183440"/>
                          <a:tab algn="l" pos="7632720"/>
                          <a:tab algn="l" pos="8082000"/>
                          <a:tab algn="l" pos="853128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ие неналоговые доход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4600"/>
                          <a:tab algn="l" pos="893880"/>
                          <a:tab algn="l" pos="1343160"/>
                          <a:tab algn="l" pos="1792440"/>
                          <a:tab algn="l" pos="2241720"/>
                          <a:tab algn="l" pos="2690640"/>
                          <a:tab algn="l" pos="3139920"/>
                          <a:tab algn="l" pos="3589200"/>
                          <a:tab algn="l" pos="4038480"/>
                          <a:tab algn="l" pos="4487760"/>
                          <a:tab algn="l" pos="4937040"/>
                          <a:tab algn="l" pos="5386320"/>
                          <a:tab algn="l" pos="5835600"/>
                          <a:tab algn="l" pos="6284880"/>
                          <a:tab algn="l" pos="6734160"/>
                          <a:tab algn="l" pos="7183440"/>
                          <a:tab algn="l" pos="7632720"/>
                          <a:tab algn="l" pos="8082000"/>
                          <a:tab algn="l" pos="853128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0,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16000" indent="-214560">
                        <a:lnSpc>
                          <a:spcPct val="76000"/>
                        </a:lnSpc>
                        <a:tabLst>
                          <a:tab algn="l" pos="0"/>
                          <a:tab algn="l" pos="444600"/>
                          <a:tab algn="l" pos="893880"/>
                          <a:tab algn="l" pos="1343160"/>
                          <a:tab algn="l" pos="1792440"/>
                          <a:tab algn="l" pos="2241720"/>
                          <a:tab algn="l" pos="2690640"/>
                          <a:tab algn="l" pos="3139920"/>
                          <a:tab algn="l" pos="3589200"/>
                          <a:tab algn="l" pos="4038480"/>
                          <a:tab algn="l" pos="4487760"/>
                          <a:tab algn="l" pos="4937040"/>
                          <a:tab algn="l" pos="5386320"/>
                          <a:tab algn="l" pos="5835600"/>
                          <a:tab algn="l" pos="6284880"/>
                          <a:tab algn="l" pos="6734160"/>
                          <a:tab algn="l" pos="7183440"/>
                          <a:tab algn="l" pos="7632720"/>
                          <a:tab algn="l" pos="8082000"/>
                          <a:tab algn="l" pos="853128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16000" indent="-214560">
                        <a:lnSpc>
                          <a:spcPct val="76000"/>
                        </a:lnSpc>
                        <a:tabLst>
                          <a:tab algn="l" pos="0"/>
                          <a:tab algn="l" pos="444600"/>
                          <a:tab algn="l" pos="893880"/>
                          <a:tab algn="l" pos="1343160"/>
                          <a:tab algn="l" pos="1792440"/>
                          <a:tab algn="l" pos="2241720"/>
                          <a:tab algn="l" pos="2690640"/>
                          <a:tab algn="l" pos="3139920"/>
                          <a:tab algn="l" pos="3589200"/>
                          <a:tab algn="l" pos="4038480"/>
                          <a:tab algn="l" pos="4487760"/>
                          <a:tab algn="l" pos="4937040"/>
                          <a:tab algn="l" pos="5386320"/>
                          <a:tab algn="l" pos="5835600"/>
                          <a:tab algn="l" pos="6284880"/>
                          <a:tab algn="l" pos="6734160"/>
                          <a:tab algn="l" pos="7183440"/>
                          <a:tab algn="l" pos="7632720"/>
                          <a:tab algn="l" pos="8082000"/>
                          <a:tab algn="l" pos="853128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звозмездные поступл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16000" indent="-214560">
                        <a:lnSpc>
                          <a:spcPct val="76000"/>
                        </a:lnSpc>
                        <a:tabLst>
                          <a:tab algn="l" pos="0"/>
                          <a:tab algn="l" pos="444600"/>
                          <a:tab algn="l" pos="893880"/>
                          <a:tab algn="l" pos="1343160"/>
                          <a:tab algn="l" pos="1792440"/>
                          <a:tab algn="l" pos="2241720"/>
                          <a:tab algn="l" pos="2690640"/>
                          <a:tab algn="l" pos="3139920"/>
                          <a:tab algn="l" pos="3589200"/>
                          <a:tab algn="l" pos="4038480"/>
                          <a:tab algn="l" pos="4487760"/>
                          <a:tab algn="l" pos="4937040"/>
                          <a:tab algn="l" pos="5386320"/>
                          <a:tab algn="l" pos="5835600"/>
                          <a:tab algn="l" pos="6284880"/>
                          <a:tab algn="l" pos="6734160"/>
                          <a:tab algn="l" pos="7183440"/>
                          <a:tab algn="l" pos="7632720"/>
                          <a:tab algn="l" pos="8082000"/>
                          <a:tab algn="l" pos="853128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77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6040"/>
                          <a:tab algn="l" pos="895320"/>
                          <a:tab algn="l" pos="1344600"/>
                          <a:tab algn="l" pos="1793880"/>
                          <a:tab algn="l" pos="2243160"/>
                          <a:tab algn="l" pos="2692440"/>
                          <a:tab algn="l" pos="3141720"/>
                          <a:tab algn="l" pos="3591000"/>
                          <a:tab algn="l" pos="4040280"/>
                          <a:tab algn="l" pos="4489560"/>
                          <a:tab algn="l" pos="4938840"/>
                          <a:tab algn="l" pos="5388120"/>
                          <a:tab algn="l" pos="5837400"/>
                          <a:tab algn="l" pos="6286680"/>
                          <a:tab algn="l" pos="6735600"/>
                          <a:tab algn="l" pos="7184880"/>
                          <a:tab algn="l" pos="7634160"/>
                          <a:tab algn="l" pos="8083440"/>
                          <a:tab algn="l" pos="8532720"/>
                          <a:tab algn="l" pos="8982000"/>
                          <a:tab algn="l" pos="8983800"/>
                          <a:tab algn="l" pos="9433080"/>
                          <a:tab algn="l" pos="9882360"/>
                          <a:tab algn="l" pos="10331280"/>
                          <a:tab algn="l" pos="1078056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16000" indent="-214560">
                        <a:lnSpc>
                          <a:spcPct val="76000"/>
                        </a:lnSpc>
                        <a:tabLst>
                          <a:tab algn="l" pos="0"/>
                          <a:tab algn="l" pos="444600"/>
                          <a:tab algn="l" pos="893880"/>
                          <a:tab algn="l" pos="1343160"/>
                          <a:tab algn="l" pos="1792440"/>
                          <a:tab algn="l" pos="2241720"/>
                          <a:tab algn="l" pos="2690640"/>
                          <a:tab algn="l" pos="3139920"/>
                          <a:tab algn="l" pos="3589200"/>
                          <a:tab algn="l" pos="4038480"/>
                          <a:tab algn="l" pos="4487760"/>
                          <a:tab algn="l" pos="4937040"/>
                          <a:tab algn="l" pos="5386320"/>
                          <a:tab algn="l" pos="5835600"/>
                          <a:tab algn="l" pos="6284880"/>
                          <a:tab algn="l" pos="6734160"/>
                          <a:tab algn="l" pos="7183440"/>
                          <a:tab algn="l" pos="7632720"/>
                          <a:tab algn="l" pos="8082000"/>
                          <a:tab algn="l" pos="853128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 ДОХОДОВ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16000" indent="-214560">
                        <a:lnSpc>
                          <a:spcPct val="76000"/>
                        </a:lnSpc>
                        <a:tabLst>
                          <a:tab algn="l" pos="0"/>
                          <a:tab algn="l" pos="444600"/>
                          <a:tab algn="l" pos="893880"/>
                          <a:tab algn="l" pos="1343160"/>
                          <a:tab algn="l" pos="1792440"/>
                          <a:tab algn="l" pos="2241720"/>
                          <a:tab algn="l" pos="2690640"/>
                          <a:tab algn="l" pos="3139920"/>
                          <a:tab algn="l" pos="3589200"/>
                          <a:tab algn="l" pos="4038480"/>
                          <a:tab algn="l" pos="4487760"/>
                          <a:tab algn="l" pos="4937040"/>
                          <a:tab algn="l" pos="5386320"/>
                          <a:tab algn="l" pos="5835600"/>
                          <a:tab algn="l" pos="6284880"/>
                          <a:tab algn="l" pos="6734160"/>
                          <a:tab algn="l" pos="7183440"/>
                          <a:tab algn="l" pos="7632720"/>
                          <a:tab algn="l" pos="8082000"/>
                          <a:tab algn="l" pos="853128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26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4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da102d"/>
                </a:solidFill>
                <a:latin typeface="Georgia"/>
              </a:rPr>
              <a:t>Расходы бюджета муниципального образования «Вышнедеревенский сельсовет» Льговского  района Курской области за 20</a:t>
            </a:r>
            <a:r>
              <a:rPr b="0" lang="en-US" sz="2000" spc="-1" strike="noStrike">
                <a:solidFill>
                  <a:srgbClr val="da102d"/>
                </a:solidFill>
                <a:latin typeface="Georgia"/>
              </a:rPr>
              <a:t>22 </a:t>
            </a:r>
            <a:r>
              <a:rPr b="0" lang="ru-RU" sz="2000" spc="-1" strike="noStrike">
                <a:solidFill>
                  <a:srgbClr val="da102d"/>
                </a:solidFill>
                <a:latin typeface="Georgia"/>
              </a:rPr>
              <a:t>го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68360" y="1268280"/>
          <a:ext cx="7814880" cy="5702040"/>
        </p:xfrm>
        <a:graphic>
          <a:graphicData uri="http://schemas.openxmlformats.org/drawingml/2006/table">
            <a:tbl>
              <a:tblPr/>
              <a:tblGrid>
                <a:gridCol w="5248800"/>
                <a:gridCol w="2566080"/>
              </a:tblGrid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Показател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7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Мобилизационная и вневойсковая подготов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ациональная безопасность и правоохранительн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ациональная  эконом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ультур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инемотограф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2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оциальная полит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6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1189080" y="189000"/>
            <a:ext cx="10333080" cy="7750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2000" spc="-1" strike="noStrike">
                <a:solidFill>
                  <a:srgbClr val="da102d"/>
                </a:solidFill>
                <a:latin typeface="Georgia"/>
              </a:rPr>
              <a:t>Расходы на общегосударственные вопросы </a:t>
            </a:r>
            <a:br>
              <a:rPr sz="2000"/>
            </a:br>
            <a:r>
              <a:rPr b="1" lang="ru-RU" sz="2000" spc="-1" strike="noStrike">
                <a:solidFill>
                  <a:srgbClr val="da102d"/>
                </a:solidFill>
                <a:latin typeface="Georgia"/>
              </a:rPr>
              <a:t>муниципального образования «Вышнедеревенский сельсовет» </a:t>
            </a:r>
            <a:br>
              <a:rPr sz="2000"/>
            </a:br>
            <a:r>
              <a:rPr b="1" lang="ru-RU" sz="2000" spc="-1" strike="noStrike">
                <a:solidFill>
                  <a:srgbClr val="da102d"/>
                </a:solidFill>
                <a:latin typeface="Georgia"/>
              </a:rPr>
              <a:t>Льговского района Курской области за 2022 год (тыс.руб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143560" cy="6087600"/>
        </p:xfrm>
        <a:graphic>
          <a:graphicData uri="http://schemas.openxmlformats.org/drawingml/2006/table">
            <a:tbl>
              <a:tblPr/>
              <a:tblGrid>
                <a:gridCol w="6163920"/>
                <a:gridCol w="1979640"/>
              </a:tblGrid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2022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Общегосударственные вопросы, 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297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Обеспечение функционирования главы муниципально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56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Обеспечение деятельности администрации муниципально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79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Резервный фон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Другие общегосударственные 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161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9T18:34:03Z</dcterms:created>
  <dc:creator>Admin</dc:creator>
  <dc:description/>
  <dc:language>en-US</dc:language>
  <cp:lastModifiedBy/>
  <dcterms:modified xsi:type="dcterms:W3CDTF">2023-05-12T12:35:27Z</dcterms:modified>
  <cp:revision>44</cp:revision>
  <dc:subject/>
  <dc:title>БЮДЖЕТ ДЛЯ ГРАЖДАН  муниципального образования «Кармановский сельсовет» Железногорского района Курской области на 2015 год  и на плановый период  2016 и 2017 годов</dc:title>
</cp:coreProperties>
</file>